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ED1-051A-4A01-BBA2-3BAC28CE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52B-6748-480C-87D9-BF44F16E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E6C-F8A2-498A-A4AA-FC9EEAB3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FD3-0A7D-4DF9-9F8D-11E94070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E223-7F2C-410F-A360-38867B07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FDC-7334-4A05-A6DD-C2708F5A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0153-87C9-4874-A79D-A7D344A8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F80F-3925-4237-97FE-C6DDC55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7654-4A0B-45B6-9FDC-5A3F6B23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E851-CFA6-44E5-A56A-CE0B0D75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C55B-F761-44D2-84C9-D59457B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3BB-A3EA-437C-ABE2-565021AB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2FF9-6B32-4C39-8081-A2CAC01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1B7-0422-4CB7-8A1F-71DB09E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0AEF-8F2C-4276-BF86-620919A5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5D06-1C35-43A5-9B8C-A03745F6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F02F-5E38-4254-8DB5-165DF38C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F2F-62F0-4EEE-8219-F7517FC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84B-85A9-477E-94A8-0D3C5D41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3A2-FF5F-41D0-A2A4-4585CB8F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A5E-1BB0-4923-AA1D-A6E0C9A3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750-E7BD-42BA-BE65-08EA82F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EF9-1086-47DE-879D-6C71CB3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E66-CF78-4646-818C-BF828BA1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60A-A9CB-4E07-977D-8BA08B63B2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4DA8-4805-4225-B67C-43B7A30A2B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20593800">
            <a:off x="468360" y="3062160"/>
            <a:ext cx="2050920" cy="72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38800">
            <a:off x="3634920" y="5084640"/>
            <a:ext cx="2241720" cy="773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700000">
            <a:off x="6443640" y="4869000"/>
            <a:ext cx="2224080" cy="792000"/>
          </a:xfrm>
          <a:prstGeom prst="ellipse">
            <a:avLst/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38800">
            <a:off x="3352680" y="3046320"/>
            <a:ext cx="2368800" cy="660600"/>
          </a:xfrm>
          <a:prstGeom prst="ellipse">
            <a:avLst/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38800">
            <a:off x="6443640" y="2943000"/>
            <a:ext cx="214776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38800">
            <a:off x="826920" y="5227200"/>
            <a:ext cx="2098800" cy="647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937000">
            <a:off x="1187280" y="4365720"/>
            <a:ext cx="1079640" cy="122400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937000">
            <a:off x="4022640" y="4347720"/>
            <a:ext cx="1152720" cy="122400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937000">
            <a:off x="755640" y="2347560"/>
            <a:ext cx="1150920" cy="1152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937000">
            <a:off x="6948000" y="4220640"/>
            <a:ext cx="1043280" cy="1152720"/>
          </a:xfrm>
          <a:prstGeom prst="can">
            <a:avLst>
              <a:gd name="adj" fmla="val 25000"/>
            </a:avLst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937000">
            <a:off x="3780000" y="2204640"/>
            <a:ext cx="1220760" cy="1216080"/>
          </a:xfrm>
          <a:prstGeom prst="can">
            <a:avLst>
              <a:gd name="adj" fmla="val 25000"/>
            </a:avLst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937000">
            <a:off x="6834240" y="2049480"/>
            <a:ext cx="1079280" cy="1224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92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at do you think about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9500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lick each hat to fill in a thinking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652464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Darlene Farmer edvantedge Consul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050920" y="189000"/>
            <a:ext cx="5257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Digital Learning Centr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260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save your PPT into your reading fol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875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2060640"/>
            <a:ext cx="24494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To S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Sav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Reading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Put the title of this story into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Click on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4:52:22Z</dcterms:created>
  <dc:creator>Driver</dc:creator>
  <dc:description/>
  <dc:language>en-US</dc:language>
  <cp:lastModifiedBy>darlene</cp:lastModifiedBy>
  <dcterms:modified xsi:type="dcterms:W3CDTF">2007-06-23T11:59:10Z</dcterms:modified>
  <cp:revision>8</cp:revision>
  <dc:subject/>
  <dc:title>Slide 1</dc:title>
</cp:coreProperties>
</file>