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B4B-1C39-4FAA-80EC-55C41428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28F-14C7-41FC-9848-F4AB1840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F21-42CD-4001-AE38-5D124B70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BE2-FC8B-4580-90A5-6C4E1EB1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4A16-B387-4E22-BBE4-3C26EBAB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3D88-0594-4725-8C31-0B548C6D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BF4C-6C33-456E-B02D-86387F97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C017-35B4-4B98-A221-9C210E9E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3994-7830-44F7-A0B8-D71B6C44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01AB-8D0E-4D2A-85F2-B73A92F3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3EE0-FEDB-43A7-B1C8-B80B1128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583-58D1-4903-85D8-B9D9EF44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C425-39A3-4271-9564-9D05A3E2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C51C-B600-4D86-9D46-A1A816B3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42A7-1225-4E2D-9460-E3A6A9E5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C0BB-82DB-4401-A035-A836010C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FBC3-1EB4-4907-898F-F056EC35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3E0-2381-47E1-9802-6CF8FDD0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187-4468-4174-B52A-9BE81E49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DFB-7CF8-45F2-A04B-19AE8983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458-9A07-41B7-8ED3-76492205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DE5-5A3B-469A-9E6C-D495FA0F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104-53C2-4DAC-A7A4-1315D3C0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3ED-D9BD-4177-9117-81D0D919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7F58-2711-494E-8F80-4EE63C36521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B4D4-6AA2-4E22-8591-48127D4DF0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 rot="20593800">
            <a:off x="468360" y="3062160"/>
            <a:ext cx="2050920" cy="72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0638800">
            <a:off x="3634920" y="5084640"/>
            <a:ext cx="2241720" cy="773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700000">
            <a:off x="6443640" y="4869000"/>
            <a:ext cx="2224080" cy="792000"/>
          </a:xfrm>
          <a:prstGeom prst="ellipse">
            <a:avLst/>
          </a:prstGeom>
          <a:solidFill>
            <a:srgbClr val="4e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638800">
            <a:off x="3352680" y="3046320"/>
            <a:ext cx="2368800" cy="660600"/>
          </a:xfrm>
          <a:prstGeom prst="ellipse">
            <a:avLst/>
          </a:prstGeom>
          <a:solidFill>
            <a:srgbClr val="eff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638800">
            <a:off x="6443640" y="2943000"/>
            <a:ext cx="2147760" cy="55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0638800">
            <a:off x="826920" y="5227200"/>
            <a:ext cx="2098800" cy="647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937000">
            <a:off x="1187280" y="4365720"/>
            <a:ext cx="1079640" cy="122400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937000">
            <a:off x="4022640" y="4347720"/>
            <a:ext cx="1152720" cy="122400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937000">
            <a:off x="755640" y="2347560"/>
            <a:ext cx="1150920" cy="11523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937000">
            <a:off x="6948000" y="4220640"/>
            <a:ext cx="1043280" cy="1152720"/>
          </a:xfrm>
          <a:prstGeom prst="can">
            <a:avLst>
              <a:gd name="adj" fmla="val 25000"/>
            </a:avLst>
          </a:prstGeom>
          <a:solidFill>
            <a:srgbClr val="4e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937000">
            <a:off x="3780000" y="2204640"/>
            <a:ext cx="1220760" cy="1216080"/>
          </a:xfrm>
          <a:prstGeom prst="can">
            <a:avLst>
              <a:gd name="adj" fmla="val 25000"/>
            </a:avLst>
          </a:prstGeom>
          <a:solidFill>
            <a:srgbClr val="eff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937000">
            <a:off x="6834240" y="2049480"/>
            <a:ext cx="1079280" cy="122400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922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at do you think about this 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9500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Click each hat to fill in a thinking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24360" y="6524640"/>
            <a:ext cx="32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  <a:ea typeface="Arial"/>
              </a:rPr>
              <a:t>Darlene Farmer edvantedge Consul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050920" y="189000"/>
            <a:ext cx="5257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Digital Learning Centr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11280" y="26028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w save your PPT into your reading fol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4105440" cy="3875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" y="2060640"/>
            <a:ext cx="244944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To S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Go to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Go to Sav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Find and open your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Find and open your Reading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Put the title of this story into the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Click on S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04:52:22Z</dcterms:created>
  <dc:creator>Driver</dc:creator>
  <dc:description/>
  <dc:language>en-US</dc:language>
  <cp:lastModifiedBy>darlene</cp:lastModifiedBy>
  <dcterms:modified xsi:type="dcterms:W3CDTF">2007-06-23T11:59:10Z</dcterms:modified>
  <cp:revision>8</cp:revision>
  <dc:subject/>
  <dc:title>Slide 1</dc:title>
</cp:coreProperties>
</file>