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411-219B-498D-9D13-9241E1F2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DBB-0F1D-4632-B1AC-DBFBAAA8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732-7B59-4C6A-937C-A036482C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F2F-AAD8-4371-B778-AB05127E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6558-7131-43A5-94F9-C3703DC8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056B-39B5-444A-A883-EC27D3C3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32BF-B647-4999-A32F-FDCAC85F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5BB3-FA3F-4B02-997B-2559475F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D582-0D74-4B17-8FED-B2265383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EA53-D376-4B50-86A7-586FBEDC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8A9B-5220-42EF-B868-35FDAD30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E14-6DC6-49AF-8A46-06BB9EBA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1892-4551-4100-A6B3-391A2F4E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9422-6B5D-4D33-A592-24BEA5F2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1C89-DD23-43D3-9FBD-4C35A1A4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35BF-EE02-4187-B236-DC618C76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98AA-70BD-4E0A-9B94-B3BFAFD8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52A-7DE5-4FB7-B358-FCE7AE79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659-2C56-4416-8E29-6770E8B5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BE8-A68E-4900-BA0A-A49F4E17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FFE-21E8-418B-AEF3-033832B6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660-C596-43AD-BCC9-4D1A4704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112-F301-4DFD-B59F-F04B91E0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3F5F-6709-4E2B-9A32-C3A04B0E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4EB9-1932-4F39-8A95-649D8AA3D6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26C6-4A64-4091-A18A-D0AD7290A5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20593800">
            <a:off x="468360" y="3062160"/>
            <a:ext cx="2050920" cy="72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638800">
            <a:off x="3634920" y="5084640"/>
            <a:ext cx="2241720" cy="773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700000">
            <a:off x="6443640" y="4869000"/>
            <a:ext cx="2224080" cy="792000"/>
          </a:xfrm>
          <a:prstGeom prst="ellipse">
            <a:avLst/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38800">
            <a:off x="3352680" y="3046320"/>
            <a:ext cx="2368800" cy="660600"/>
          </a:xfrm>
          <a:prstGeom prst="ellipse">
            <a:avLst/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38800">
            <a:off x="6443640" y="2943000"/>
            <a:ext cx="214776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638800">
            <a:off x="826920" y="5227200"/>
            <a:ext cx="2098800" cy="647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937000">
            <a:off x="1187280" y="4365720"/>
            <a:ext cx="1079640" cy="122400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937000">
            <a:off x="4022640" y="4347720"/>
            <a:ext cx="1152720" cy="122400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937000">
            <a:off x="755640" y="2347560"/>
            <a:ext cx="1150920" cy="1152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937000">
            <a:off x="6948000" y="4220640"/>
            <a:ext cx="1043280" cy="1152720"/>
          </a:xfrm>
          <a:prstGeom prst="can">
            <a:avLst>
              <a:gd name="adj" fmla="val 25000"/>
            </a:avLst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937000">
            <a:off x="3780000" y="2204640"/>
            <a:ext cx="1220760" cy="1216080"/>
          </a:xfrm>
          <a:prstGeom prst="can">
            <a:avLst>
              <a:gd name="adj" fmla="val 25000"/>
            </a:avLst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937000">
            <a:off x="6834240" y="2049480"/>
            <a:ext cx="1079280" cy="12240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922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at do you think about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9500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lick each hat to fill in a thinking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652464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Darlene Farmer edvantedge Consul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050920" y="189000"/>
            <a:ext cx="5257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Digital Learning Centr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1280" y="2602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save your PPT into your reading fol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4105440" cy="3875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2060640"/>
            <a:ext cx="244944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To S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Go to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Go to Sav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Find and open your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Find and open your Reading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Put the title of this story into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Click on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4:52:22Z</dcterms:created>
  <dc:creator>Driver</dc:creator>
  <dc:description/>
  <dc:language>en-US</dc:language>
  <cp:lastModifiedBy>darlene</cp:lastModifiedBy>
  <dcterms:modified xsi:type="dcterms:W3CDTF">2007-06-23T11:59:10Z</dcterms:modified>
  <cp:revision>8</cp:revision>
  <dc:subject/>
  <dc:title>Slide 1</dc:title>
</cp:coreProperties>
</file>