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1A6-3BDD-4BD3-AE61-3E2EF4B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299-77D0-406E-91DB-E1609889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9F4-E0AA-43AC-8AB5-F0317FB1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4FC-089D-43E7-82BD-31ABD4DF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4E8-CE78-469F-9CBE-4C572A75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E0B9-5ECC-468B-8A26-483DB66A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5F01-C814-4938-81D9-E1E075D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B98B-B77A-4AE0-880B-69FEB69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00A8-FBCE-462C-9295-CD5E39F9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B799-4DDE-45BB-BFFF-B6D9A26E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428-D7AE-41E0-9B00-58AF571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9DD-C3C1-4F15-B6B5-9566373A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0322-5ADF-46F0-8C68-C607F82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D19-CABC-4780-81BB-8F0CBC4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127E-AB66-4CD8-ACA6-5DB267F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1722-EAC7-423A-BF84-AF28C6CB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41CB-21A4-4330-86FC-6AB98E63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BD9-2631-4BF7-BDBC-52765EC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6D2-154D-4929-9C4E-3D4A0B1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58F-E912-45D3-81D8-779A720B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FED-3D36-4DF9-8574-53995B1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59C-3EEC-41E4-B0CC-C4CB273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AA5-1B2F-4421-AED3-78094DA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262-A11C-4676-9E3C-5C34C45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592-09E1-4429-A787-B03550EF49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A5B-A5BA-4DD9-A0EE-5ACBF2FAC1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593800">
            <a:off x="468360" y="3062160"/>
            <a:ext cx="205092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700000">
            <a:off x="644364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38800">
            <a:off x="6443640" y="2943000"/>
            <a:ext cx="214776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38800">
            <a:off x="826920" y="5227200"/>
            <a:ext cx="2098800" cy="647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937000">
            <a:off x="755640" y="2347560"/>
            <a:ext cx="1150920" cy="1152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922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at do you think about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9500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lick each hat to fill in a thinking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652464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Darlene Farmer edvantedge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0920" y="18900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igital Learning Centr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save your PPT into your reading fol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875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2060640"/>
            <a:ext cx="24494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To S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Go to Sav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Find and open your Reading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Put the title of this story into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Click on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arlene</cp:lastModifiedBy>
  <dcterms:modified xsi:type="dcterms:W3CDTF">2007-06-23T11:59:10Z</dcterms:modified>
  <cp:revision>8</cp:revision>
  <dc:subject/>
  <dc:title>Slide 1</dc:title>
</cp:coreProperties>
</file>